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3335-D57E-476C-A927-4F4EB13B5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39EA-AE60-40BC-8F89-2B3A1C3E9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8263-1041-4F7F-A92A-80FB750BA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8C62-C422-4A2A-BE1F-6AFE7F237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DB866-1418-4335-8E4E-860427613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794BA-7A74-44D3-9C1C-1B68F59BB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B358A-0F90-49BD-8E11-A5669CFF2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6E897-E32A-42DE-8563-6DA5C409B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EEA54-0ABA-41E8-9A3E-75120B08F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FA7C1-B85B-4518-92CD-7EAAA61F8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EED9E-4B5E-456F-8BF2-8289B5DF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4FD4-A299-46D0-8CB9-0510B706C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F080C-9793-4668-A859-70F747343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93E41-7367-4B99-92D6-50B4D2D6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C1FF8-9BD9-4FF3-96AD-7E861232B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56599-A86C-4FB2-919A-A749FDAF1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E643D-E8D8-4463-B938-6377AA0B7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8CA4-A83E-4D38-A323-B1FC4EBC8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5570-4E4F-4F15-A521-B37936051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0266-219E-4E70-91D7-E76986623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B9EE-8F6C-48F2-9DDB-F784A2BC1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C221-D143-4975-B149-E6BB03B86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6DBB-011B-4CD9-96CA-2D0D20114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95B5-FBA0-4A2C-B785-4FC08BE3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82A79-7BF0-4E12-9AB7-C206F43AE8F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B6494-0969-4D44-8E1B-811999826E7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3941640"/>
            <a:ext cx="815832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Расчет потребности в  топливе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352520"/>
            <a:ext cx="8121600" cy="15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асчета количества топлива, необходимого для обеспечения работы машин и механизмов на весь период строительств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асчеты производятся на основании данных норм потребления топлива различными машинам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801720" y="5187960"/>
            <a:ext cx="8121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Необходимо ввести потребителей топлива и ГСМ и задать их количество.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Учет дорожно-транспортных, климатических и других эксплуатационных факторов производится с помощь соответствующих поправок. При необходимости можно также задать нормы расхода смазочных материалов на 100 л общего расхода топлива. По каждому потребителю требуется указать нормы расхода топлива по видам работ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1738440" y="868320"/>
            <a:ext cx="6076800" cy="421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12708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Выбор потребителя топлива и ГСМ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676440" y="6259680"/>
            <a:ext cx="812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Список машин и механизмов формируется на основе справочника или вводится вручную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747720" y="1209600"/>
            <a:ext cx="7648560" cy="443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63840" y="21600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Работа со справочником поправок к нормам расхода топлив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716040" y="5338800"/>
            <a:ext cx="812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Учет дорожно-транспортных, климатических и других эксплуатационных факторов, изменяющих норму расхода топлива, производится при помощи поправочных коэффициентов (надбавок), регламентированных в виде процентов повышения или снижения исходного значения нормы.  Доступен ввод поправок вручную или из соответствующего справочник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936720" y="1265400"/>
            <a:ext cx="7648560" cy="383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563840" y="291960"/>
            <a:ext cx="65768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результата расчета потребности в топливе и горюче-смазочных материалах на строительной площадк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4"/>
          <a:stretch/>
        </p:blipFill>
        <p:spPr>
          <a:xfrm>
            <a:off x="2214720" y="1751040"/>
            <a:ext cx="5659200" cy="4759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8-12-21T12:36:37Z</dcterms:modified>
  <cp:revision>201</cp:revision>
  <dc:subject/>
  <dc:title>Слайд 1</dc:title>
</cp:coreProperties>
</file>